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gif" ContentType="image/gif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657F-66FF-4BFC-B3D0-B3F347FA1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504-6549-441C-9C02-7F75C43A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321-D79A-484B-A09F-7B65BAD5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E2B-2D02-40D4-99DC-69362C2C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752-10B2-4E9D-BD6B-447C1EF1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3AA1-D102-440A-9E3C-8B13325E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7BB5-1C3D-401F-9EBC-2C87C43C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E27E-9B28-4AE6-8C00-BEC52B3A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B9AA-2E8F-48B6-8397-CD5EF1A0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9076-5C04-4927-9B8F-B7794298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309E-EE2F-4C4F-89BF-2CCEBD5C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0237-298E-47F9-9AA2-1ABD9E9F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0D4-70FB-4B0B-B87B-109A46BC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3A8F-AED3-450B-AD0F-3410DE9E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885E-F9A4-406E-A7BB-091960C7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D426-9634-4F3A-B577-717C080C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FFD1-9271-42E3-BFE8-7EDA98B8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C8E4-B3A8-4F3C-974B-14F72BC1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B8C-1E0F-46C7-A882-6C5A9022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56F-EEDF-4480-B982-24FDA2C0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E32-56ED-435E-B4C1-55AC60DF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5F7-EC7E-410B-A971-42FFB977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722-296A-417C-8262-C1108025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761-022A-4C92-9561-D195861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C68-9FDE-4585-8690-87CBC1F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72B9-2E66-4F7B-947F-45AA6CE06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01C3-372C-4D59-B55F-9FD52DA5F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et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Comic Sans MS"/>
              </a:rPr>
              <a:t>ADP, ATP and Cellular Respiration</a:t>
            </a:r>
            <a:endParaRPr b="0" lang="en-US" sz="7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n is ATP Made in the Body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uring a Process called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that takes place in both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4" name="Picture 11" descr="Copy of heart[1]"/>
          <p:cNvPicPr/>
          <p:nvPr/>
        </p:nvPicPr>
        <p:blipFill>
          <a:blip r:embed="rId1"/>
          <a:stretch/>
        </p:blipFill>
        <p:spPr>
          <a:xfrm>
            <a:off x="4572000" y="2511360"/>
            <a:ext cx="4191120" cy="38131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cludes pathways that require oxyg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xidiz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and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duc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breakdown is therefore an </a:t>
            </a:r>
            <a:r>
              <a:rPr b="1" i="1" lang="en-US" sz="3600" spc="-1" strike="noStrike">
                <a:solidFill>
                  <a:srgbClr val="ffcc66"/>
                </a:solidFill>
                <a:latin typeface="Comic Sans MS"/>
              </a:rPr>
              <a:t>oxidation-reduc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reakdown of one glucose results in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36 to 38 ATP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olecule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verall Equation for 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5791320"/>
            <a:ext cx="9144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6CO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6H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0 + e</a:t>
            </a:r>
            <a:r>
              <a:rPr b="1" lang="en-US" sz="44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36-38</a:t>
            </a: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ATP’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219320" y="2430360"/>
            <a:ext cx="60195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    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+ 6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276720" y="41911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YIEL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4495680" y="34290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4572000" y="502920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Type of Process is Cellular Respiratio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 Oxidation-Reduction Process or REDOX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xidation of GLUCOSE --&gt; C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+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removed from C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tion 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  to 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passed to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What Carries the Electron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nicotinadenine dinucleotide) acts as the energy carri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D</a:t>
            </a:r>
            <a:r>
              <a:rPr b="1" lang="en-US" sz="29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enzy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D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it picks up two electrons and one hydrogen 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6576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7" descr="alcferm"/>
          <p:cNvPicPr/>
          <p:nvPr/>
        </p:nvPicPr>
        <p:blipFill>
          <a:blip r:embed="rId1"/>
          <a:srcRect l="27119" t="27458" r="36729" b="0"/>
          <a:stretch/>
        </p:blipFill>
        <p:spPr>
          <a:xfrm>
            <a:off x="480960" y="1600200"/>
            <a:ext cx="3889440" cy="4876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re There Any Other Electron Carrier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YES! Another Co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AD+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Flavin adenine dinucleotid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to FAD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6" descr="etransport[1]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44193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Other Cellular Respiration Fac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etabolic Pathway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hat breaks down carbohydr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s High-energy Glucose is broken into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also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atabol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because larger Glucose breaks into smaller molecu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are the Stages of Cellular Respiration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ycolysi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Krebs Cyc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Electron Transport Chai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re Does Cellular Respiration Take Plac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38098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t actually takes place in two parts of the cell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28600" y="38098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ycolysis occurs in the 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28600" y="4952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Krebs Cycle &amp; ETC Tak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place in the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14" descr="mitochondria[1]"/>
          <p:cNvPicPr/>
          <p:nvPr/>
        </p:nvPicPr>
        <p:blipFill>
          <a:blip r:embed="rId1"/>
          <a:stretch/>
        </p:blipFill>
        <p:spPr>
          <a:xfrm>
            <a:off x="4245120" y="1676520"/>
            <a:ext cx="4765680" cy="4876560"/>
          </a:xfrm>
          <a:prstGeom prst="rect">
            <a:avLst/>
          </a:prstGeom>
          <a:ln w="0">
            <a:noFill/>
          </a:ln>
        </p:spPr>
      </p:pic>
      <p:sp>
        <p:nvSpPr>
          <p:cNvPr id="180" name="Line 15"/>
          <p:cNvSpPr/>
          <p:nvPr/>
        </p:nvSpPr>
        <p:spPr>
          <a:xfrm flipV="1">
            <a:off x="3733920" y="5714640"/>
            <a:ext cx="2743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Review of Mitochondria Structur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mooth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ut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inn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Folds call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rista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Space inside cristae called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tr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4" name="Picture 5" descr="mitochondria[1]"/>
          <p:cNvPicPr/>
          <p:nvPr/>
        </p:nvPicPr>
        <p:blipFill>
          <a:blip r:embed="rId1"/>
          <a:stretch/>
        </p:blipFill>
        <p:spPr>
          <a:xfrm>
            <a:off x="4648320" y="1905120"/>
            <a:ext cx="4190760" cy="44956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What Is ATP?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21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nergy used by all Cel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28600" y="3200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denosine Triphosph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" y="4495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rganic molecule containing high-energy Phosphate bond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Diagram of the Process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87" name="Picture 7" descr="Overview[1]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76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533520" y="4800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28600" y="4724280"/>
            <a:ext cx="17524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Line 10"/>
          <p:cNvSpPr/>
          <p:nvPr/>
        </p:nvSpPr>
        <p:spPr>
          <a:xfrm flipV="1">
            <a:off x="1143000" y="4266720"/>
            <a:ext cx="76212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200400" y="5715000"/>
            <a:ext cx="17524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4267080" y="4343400"/>
            <a:ext cx="99072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7467480" y="1600200"/>
            <a:ext cx="16765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7162560" y="2819520"/>
            <a:ext cx="99036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2209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akes place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62120" y="3048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aerobic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(Doesn’t Use Oxyge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62120" y="3962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quires input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14400" y="51814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ucose split into two molecules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ate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ic Aci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NADH and 4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yruvate is oxidized to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cetyl CoA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remov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Glycolysis Diagram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06" name="Picture 7" descr="glyco[1]"/>
          <p:cNvPicPr/>
          <p:nvPr/>
        </p:nvPicPr>
        <p:blipFill>
          <a:blip r:embed="rId1"/>
          <a:stretch/>
        </p:blipFill>
        <p:spPr>
          <a:xfrm>
            <a:off x="2895480" y="380880"/>
            <a:ext cx="5972400" cy="6162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Ferment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57200" y="1752480"/>
            <a:ext cx="845820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ccurs when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NOT presen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anaerobic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ctic Aci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fermentation in muscle cells (mak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uscles tir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coholic fermentation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in yeast (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thanol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Nets only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 Little Krebs Cycle Histo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Discovered b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ns Krebs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193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He received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bel Prize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physiology or medicine in 1953 for his disco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orced to leave Germany prior to WWII because he was Jewis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6" descr="krebs"/>
          <p:cNvPicPr/>
          <p:nvPr/>
        </p:nvPicPr>
        <p:blipFill>
          <a:blip r:embed="rId1"/>
          <a:stretch/>
        </p:blipFill>
        <p:spPr>
          <a:xfrm>
            <a:off x="762120" y="1828800"/>
            <a:ext cx="3284280" cy="4648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quires Oxygen (Aerobic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clical series of oxidation reactions that give off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produce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ne ATP per cyc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urn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ic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er glucose molecu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duce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o ATP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akes place in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atrix of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ach turn of the Krebs Cycle 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3NADH, 1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Therefore, For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ach Glucose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molecule, the Krebs Cycle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6NADH, 2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4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4419720" y="5791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267080" y="5791320"/>
            <a:ext cx="838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80880" y="646920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TS: 3NADH, 1ATP, 1FAD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, &amp; 2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Electron Transport Chain Summa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4 ATP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ccurs Acros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ner Mitochondrial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Uses coenzym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+ and FAD+ to accept e- from gluco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H = 3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AD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2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Chemical Structure of ATP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03" name="Picture 10" descr="atp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3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06668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648320" y="5562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0" y="1676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Electron Transport Chain Animation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Does ATP Do for You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It supplies YOU wi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ENERGY!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1" descr="ag00019_"/>
          <p:cNvPicPr/>
          <p:nvPr/>
        </p:nvPicPr>
        <p:blipFill>
          <a:blip r:embed="rId1"/>
          <a:stretch/>
        </p:blipFill>
        <p:spPr>
          <a:xfrm>
            <a:off x="2666880" y="2819520"/>
            <a:ext cx="3810240" cy="35240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How Do We Get Energy From ATP?</a:t>
            </a:r>
            <a:endParaRPr b="0" lang="en-US" sz="4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By breaking the high- energy bonds between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st two phosphates in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11" descr="Copy (3) of atp[1]"/>
          <p:cNvPicPr/>
          <p:nvPr/>
        </p:nvPicPr>
        <p:blipFill>
          <a:blip r:embed="rId1"/>
          <a:stretch/>
        </p:blipFill>
        <p:spPr>
          <a:xfrm>
            <a:off x="4267080" y="19051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is the Process Called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17" name="Picture 4" descr="option2[1]"/>
          <p:cNvPicPr/>
          <p:nvPr/>
        </p:nvPicPr>
        <p:blipFill>
          <a:blip r:embed="rId1"/>
          <a:stretch/>
        </p:blipFill>
        <p:spPr>
          <a:xfrm>
            <a:off x="1066680" y="2057400"/>
            <a:ext cx="7315200" cy="4454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LYSIS (Addin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34290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57200" y="396252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Does That Happe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23" name="Picture 6" descr="bd13684_"/>
          <p:cNvPicPr/>
          <p:nvPr/>
        </p:nvPicPr>
        <p:blipFill>
          <a:blip r:embed="rId1"/>
          <a:stretch/>
        </p:blipFill>
        <p:spPr>
          <a:xfrm>
            <a:off x="380880" y="144792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1"/>
          <p:cNvSpPr txBox="1"/>
          <p:nvPr/>
        </p:nvSpPr>
        <p:spPr>
          <a:xfrm>
            <a:off x="304920" y="579132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25" name="Picture 16" descr="Copy of C7_atp_2[1]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7"/>
          <p:cNvSpPr/>
          <p:nvPr/>
        </p:nvSpPr>
        <p:spPr>
          <a:xfrm>
            <a:off x="2286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n 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is ATP Re-Mad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verse of the previous process occur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Picture 6" descr="equil[1]"/>
          <p:cNvPicPr/>
          <p:nvPr/>
        </p:nvPicPr>
        <p:blipFill>
          <a:blip r:embed="rId1"/>
          <a:stretch/>
        </p:blipFill>
        <p:spPr>
          <a:xfrm>
            <a:off x="5486400" y="2819520"/>
            <a:ext cx="31734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838080" y="3276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other Enzyme is used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38080" y="4952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The ADP-ATP Cycle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35" name="Picture 3" descr="ATP-ADP Cycle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3049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-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676520" y="2057040"/>
            <a:ext cx="19047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00800" y="26668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4723920" y="3809880"/>
            <a:ext cx="20574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3657240" y="3809880"/>
            <a:ext cx="30481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5:36:14Z</dcterms:created>
  <dc:creator>Cheryl massengale</dc:creator>
  <dc:description/>
  <dc:language>en-US</dc:language>
  <cp:lastModifiedBy>LEGION</cp:lastModifiedBy>
  <dcterms:modified xsi:type="dcterms:W3CDTF">2016-12-07T12:34:45Z</dcterms:modified>
  <cp:revision>36</cp:revision>
  <dc:subject/>
  <dc:title>ADP, ATP and Cellular Respiration Powerpoint</dc:title>
</cp:coreProperties>
</file>